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h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3CBCBB-B655-4F22-AC27-BB094709C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h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5DD5A2-8AA2-4498-99EC-D38AC6D6C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793800" y="949320"/>
            <a:ext cx="5344920" cy="400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82844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05720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82844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82844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05720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05720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684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90880" y="182844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82844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82844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90880" y="405720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82844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82844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90880" y="405720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6680" y="182844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76880" y="182844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6680" y="405720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76880" y="405720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684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90880" y="182844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90880" y="182844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0880" y="182844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790880" y="405720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82844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82844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790880" y="405720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6680" y="182844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76880" y="182844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6680" y="405720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76880" y="405720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82844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82844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82844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05720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82844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347a"/>
              </a:buClr>
              <a:buSzPct val="15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9347a"/>
              </a:buClr>
              <a:buSzPct val="150000"/>
              <a:buFont typeface="Times New Roman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9347a"/>
              </a:buClr>
              <a:buSzPct val="15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9347a"/>
              </a:buClr>
              <a:buSzPct val="15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9347a"/>
              </a:buClr>
              <a:buSzPct val="15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5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5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1" descr="presentation leaper"/>
          <p:cNvPicPr/>
          <p:nvPr/>
        </p:nvPicPr>
        <p:blipFill>
          <a:blip r:embed="rId2"/>
          <a:stretch/>
        </p:blipFill>
        <p:spPr>
          <a:xfrm>
            <a:off x="228600" y="326880"/>
            <a:ext cx="1828800" cy="1730520"/>
          </a:xfrm>
          <a:prstGeom prst="rect">
            <a:avLst/>
          </a:prstGeom>
          <a:ln w="0">
            <a:noFill/>
          </a:ln>
        </p:spPr>
      </p:pic>
      <p:sp>
        <p:nvSpPr>
          <p:cNvPr id="77" name="Freeform 8"/>
          <p:cNvSpPr/>
          <p:nvPr/>
        </p:nvSpPr>
        <p:spPr>
          <a:xfrm>
            <a:off x="228600" y="304920"/>
            <a:ext cx="1828800" cy="174600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768" y="0"/>
                </a:moveTo>
                <a:lnTo>
                  <a:pt x="0" y="0"/>
                </a:lnTo>
                <a:lnTo>
                  <a:pt x="0" y="1008"/>
                </a:lnTo>
                <a:lnTo>
                  <a:pt x="1056" y="1008"/>
                </a:lnTo>
                <a:lnTo>
                  <a:pt x="1056" y="240"/>
                </a:lnTo>
              </a:path>
            </a:pathLst>
          </a:custGeom>
          <a:noFill/>
          <a:ln w="12600">
            <a:solidFill>
              <a:srgbClr val="41963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9"/>
          <p:cNvCxnSpPr/>
          <p:nvPr/>
        </p:nvCxnSpPr>
        <p:spPr>
          <a:xfrm rot="10800000">
            <a:off x="1558080" y="304200"/>
            <a:ext cx="499320" cy="416520"/>
          </a:xfrm>
          <a:prstGeom prst="curvedConnector5">
            <a:avLst>
              <a:gd name="adj1" fmla="val 649"/>
              <a:gd name="adj2" fmla="val 50000"/>
              <a:gd name="adj3" fmla="val 649"/>
            </a:avLst>
          </a:prstGeom>
          <a:ln w="12600">
            <a:solidFill>
              <a:srgbClr val="419638"/>
            </a:solidFill>
            <a:miter/>
          </a:ln>
        </p:spPr>
      </p:cxn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347a"/>
              </a:buClr>
              <a:buSzPct val="15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9347a"/>
              </a:buClr>
              <a:buSzPct val="150000"/>
              <a:buFont typeface="Times New Roman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9347a"/>
              </a:buClr>
              <a:buSzPct val="15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9347a"/>
              </a:buClr>
              <a:buSzPct val="15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9347a"/>
              </a:buClr>
              <a:buSzPct val="15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5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5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90440" y="22860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28600" y="609480"/>
            <a:ext cx="4114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228600" y="1676520"/>
            <a:ext cx="41148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228600" y="4648320"/>
            <a:ext cx="41148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4724280" y="609480"/>
            <a:ext cx="411480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4724280" y="2971800"/>
            <a:ext cx="41148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4724280" y="54100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6705720" y="228600"/>
            <a:ext cx="5331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7238880" y="228600"/>
            <a:ext cx="533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7772400" y="228600"/>
            <a:ext cx="533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8305920" y="228600"/>
            <a:ext cx="5331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228600" y="609480"/>
            <a:ext cx="19810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228600" y="1676520"/>
            <a:ext cx="22352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ent Cond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28600" y="3429000"/>
            <a:ext cx="1143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/Goal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228600" y="4648320"/>
            <a:ext cx="15238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4724280" y="609480"/>
            <a:ext cx="3429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d Countermeasure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4724280" y="2971800"/>
            <a:ext cx="20574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4724280" y="5410080"/>
            <a:ext cx="21337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llow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2"/>
          <p:cNvSpPr/>
          <p:nvPr/>
        </p:nvSpPr>
        <p:spPr>
          <a:xfrm>
            <a:off x="228600" y="3429000"/>
            <a:ext cx="4114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4800600" y="577548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6027120" y="38088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adley Hand ITC"/>
                <a:ea typeface="ＭＳ Ｐゴシック"/>
              </a:rPr>
              <a:t>init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0"/>
          <p:cNvSpPr/>
          <p:nvPr/>
        </p:nvSpPr>
        <p:spPr>
          <a:xfrm>
            <a:off x="2133720" y="13716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1"/>
          <p:cNvSpPr/>
          <p:nvPr/>
        </p:nvSpPr>
        <p:spPr>
          <a:xfrm>
            <a:off x="2057400" y="31240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2"/>
          <p:cNvSpPr/>
          <p:nvPr/>
        </p:nvSpPr>
        <p:spPr>
          <a:xfrm>
            <a:off x="2133720" y="441972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3"/>
          <p:cNvSpPr/>
          <p:nvPr/>
        </p:nvSpPr>
        <p:spPr>
          <a:xfrm>
            <a:off x="6477120" y="25909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4"/>
          <p:cNvSpPr/>
          <p:nvPr/>
        </p:nvSpPr>
        <p:spPr>
          <a:xfrm>
            <a:off x="6477120" y="49528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5:42:12Z</dcterms:created>
  <dc:creator>Matthew Klicker</dc:creator>
  <dc:description/>
  <dc:language>en-US</dc:language>
  <cp:lastModifiedBy>Michalis Papakis</cp:lastModifiedBy>
  <dcterms:modified xsi:type="dcterms:W3CDTF">2018-09-11T22:27:36Z</dcterms:modified>
  <cp:revision>98</cp:revision>
  <dc:subject/>
  <dc:title>Slide 1</dc:title>
</cp:coreProperties>
</file>